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6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AA53-4455-4249-B016-F25AF960422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652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42FF-5B80-430D-BC2C-C0E0F60BD9E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7BB-440E-4615-BB8B-2A4A8E84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53D-71A4-4556-9772-DDCBD05B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EC4-0AD8-42F4-A369-8BC93A9A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B71-F6D6-40C5-B4D8-4027E185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EEA-3613-4365-A095-0E50A6B7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6C3-C530-4181-9EBB-F8BD07E5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4B0-FEB1-4111-BC45-3DA1D1F0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EDD-8F8E-4402-9A2D-23D14BD8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5280"/>
            <a:ext cx="6175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BA7-F65D-4729-97AF-A8F6BF73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EA9-7BC0-4760-B5D4-B912B2D1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28D-5D7A-4082-B787-9CCFE19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6E0-3B95-462F-8D1F-93AA15D5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9C37AA-F590-4E70-A278-8667C8EB537B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41720" y="6537240"/>
            <a:ext cx="3403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516480" y="5964120"/>
            <a:ext cx="3341520" cy="38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lezione di 28 componenti del CNSU iscritti ad un corso di laurea,  di laurea magistrale, di laurea magistrale a ciclo unico o a corsi di laurea di precedenti ordina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iversità degli Studi di…….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de di……..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ggio N°…….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rma del Presiden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>
            <a:off x="189000" y="8985240"/>
            <a:ext cx="2171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2"/>
          <p:cNvSpPr/>
          <p:nvPr/>
        </p:nvSpPr>
        <p:spPr>
          <a:xfrm>
            <a:off x="4231440" y="41580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es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e 1"/>
          <p:cNvSpPr/>
          <p:nvPr/>
        </p:nvSpPr>
        <p:spPr>
          <a:xfrm>
            <a:off x="293760" y="4761000"/>
            <a:ext cx="576360" cy="576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egnaposto piè di pagina 1"/>
          <p:cNvSpPr/>
          <p:nvPr/>
        </p:nvSpPr>
        <p:spPr>
          <a:xfrm>
            <a:off x="485640" y="8842320"/>
            <a:ext cx="217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"/>
          <p:cNvSpPr/>
          <p:nvPr/>
        </p:nvSpPr>
        <p:spPr>
          <a:xfrm>
            <a:off x="497160" y="3903840"/>
            <a:ext cx="225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mbolo o cas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vuota in caso di assenza di simbo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052640" y="468936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4"/>
          <p:cNvSpPr/>
          <p:nvPr/>
        </p:nvSpPr>
        <p:spPr>
          <a:xfrm rot="10800000">
            <a:off x="3847680" y="468936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"/>
          <p:cNvSpPr/>
          <p:nvPr/>
        </p:nvSpPr>
        <p:spPr>
          <a:xfrm>
            <a:off x="468360" y="8553600"/>
            <a:ext cx="58323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IMO LEMBO DA PIE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4662360" y="1208160"/>
            <a:ext cx="157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in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3"/>
          <p:cNvSpPr/>
          <p:nvPr/>
        </p:nvSpPr>
        <p:spPr>
          <a:xfrm>
            <a:off x="1052640" y="443700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NOMINAZIONE DELLA L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813120" y="443700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OTO DI PREFERENZA PER UN CANDI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1"/>
          <p:cNvSpPr/>
          <p:nvPr/>
        </p:nvSpPr>
        <p:spPr>
          <a:xfrm>
            <a:off x="297000" y="570060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052640" y="560232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"/>
          <p:cNvSpPr/>
          <p:nvPr/>
        </p:nvSpPr>
        <p:spPr>
          <a:xfrm rot="10800000">
            <a:off x="3847680" y="560232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1"/>
          <p:cNvSpPr/>
          <p:nvPr/>
        </p:nvSpPr>
        <p:spPr>
          <a:xfrm>
            <a:off x="297000" y="654516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052640" y="6473880"/>
            <a:ext cx="2663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4"/>
          <p:cNvSpPr/>
          <p:nvPr/>
        </p:nvSpPr>
        <p:spPr>
          <a:xfrm rot="10800000">
            <a:off x="3847680" y="6473520"/>
            <a:ext cx="2825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47:32Z</dcterms:created>
  <dc:creator>Fabrizio</dc:creator>
  <dc:description/>
  <dc:language>en-US</dc:language>
  <cp:lastModifiedBy>HP</cp:lastModifiedBy>
  <cp:lastPrinted>2019-04-08T14:26:55Z</cp:lastPrinted>
  <dcterms:modified xsi:type="dcterms:W3CDTF">2022-02-15T08:24:53Z</dcterms:modified>
  <cp:revision>82</cp:revision>
  <dc:subject/>
  <dc:title>Diapositiva 1</dc:title>
</cp:coreProperties>
</file>